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85E-FF40-43DB-A1AF-FA8C19CC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5AE-1789-414E-9AE7-1611E3C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26CD0-7E4E-4A00-BAAB-02B81B76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92C7D-3C33-48FB-9F1E-6DBDE11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FFC61-6BE5-4B71-9DF6-8C94DD0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8CDE9-1ACC-420C-8D33-C63AF7A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053CD-B004-455E-9414-24CDEF53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17779-9312-417B-9E75-839E420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6477-8FB6-4598-A390-DC15577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C779C-584D-4E83-A4CC-3AD10833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A94D-F0EF-4A67-9D8D-206C2CA0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9133-343D-4C63-8A62-F3194DCB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ACA-F886-476B-B6AC-0CA5E015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6F09C-EC9D-4CC4-9A83-A240F92A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52978-C6D4-43F5-AFF4-CB58CFCB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DA32C-7CAB-435C-97DC-47B625D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67764-F640-49BE-8748-19A6BD0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F11F1-FBC8-4D88-905E-5DC20E89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C7D2E-C39B-4CD0-A1F8-AB9E37C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132DF-958A-4ED2-9BE4-A130A53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4FF12-E43C-4C06-B1F0-5C15190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567A0-B899-47C0-860F-CA88C729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88A77-E987-4090-9CCB-97B1D338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09F-8F8B-4B9A-8801-59FF6C7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E9FAA-8B53-44E6-A6A3-7AFB0E67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C1FF-6E45-4C9F-8BCE-165BFD4F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6775C-0B79-4777-A890-8E51CD4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9F6FB-BF27-45ED-8103-65594052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6A0F2-CB3C-4272-8395-B21A55D7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9F237-BBDE-421A-A734-005D326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9B8D-E645-41FB-B0F9-91334667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9021-8C75-4E29-90C7-1657D24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A1DC-D24D-45D9-B5A2-B8C3A65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AB59E-8BF4-4610-B3BC-51D5A4D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7C3-F748-4371-BDA2-B47AB45C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840A-A4CB-4A59-9B61-DC47F11B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BAD8-F023-404A-BDFE-FD2AFD7F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39306-EAED-458D-B861-FA68A8E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1E0AA-EFCE-4F1A-B197-188754FA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900D-464A-45AF-896B-AA18E6D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DABD-0CB4-4377-84EC-9153D33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E3196-EBF6-4D6C-AF95-5EBFADAD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D41C-5254-4FFE-BADA-2742813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3AC97-B34B-4C3C-8D4E-ECE2C031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50A92-28F4-4EA7-A43A-0756012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B39-CF5B-4333-8815-D006FD63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3CBA4-2904-4290-A5CC-E31E2A3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773BC-0149-4562-8539-34BAE8B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E692D-097C-4B9E-84C6-C6196F3C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2A055-6FC0-4A13-805E-2353D052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3801D-895A-487F-B7CF-04A081AF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553D9-06E0-43AF-966C-85283F03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E50AB-4E35-4879-B8EB-FA46C64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D1AF9-B53F-4DF2-A037-1BCA88C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28D69-7A66-4CDD-AA5E-1F3B144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D8969-E4E7-45A6-95CE-8FD55A3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4FA-CDD9-43AF-AC87-A6143E1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BA139-86CF-434C-B911-EA52ABC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49EC5-AD25-4EC5-8F60-E4054A6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4407C-1BCD-4A23-959A-457ACB85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934D5-140A-4EB2-8FCF-D0E1D58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BE583-6144-49CD-AB0B-526B657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F0B19-5F12-46E0-8265-0810B2BE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C4F36-1C3B-4852-AC5C-E328A326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9F8BC-8999-4F9A-8BAB-61EAEC9E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3A7B1-8151-4783-B8A1-262572C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D1048-EB1C-4102-8D65-B40B52E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B5C-7461-4CCB-966B-038F5B80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04448-DEDD-411A-84BF-6CD85722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41F28-9264-4BAC-A78F-B9745DA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3DE3F-CEBA-41D4-A28B-0C0126E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688D1-BA72-49F7-9E3D-9F860F5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98E5A-F538-4112-B358-EA51C2D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7FE80-0803-47C4-B2E5-5C27126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BC8E5-5D2E-43CD-A7FA-E7E6525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485EA-4A0F-46B1-AB62-F713975E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1AC46-E17A-41E3-9D58-4F1774E6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150FD-F781-435C-B9EC-562E098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32A-5E63-4917-9F5B-3FA3D8C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282F6-889C-4F88-A568-7423498C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E984C-C9C1-4890-BCDC-3AF30AF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9771B-C19F-4B9E-8213-C4AFF94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878C9-4BF9-4A51-B3C2-423C467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B7824-DB79-4BAB-959E-F2780AE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4B84A-273E-4790-B101-50BF5BB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E3193-007D-46E1-BB85-22D8D1B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14C6F-F66F-4561-A33D-3A70AEC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C1303-FA95-4EC9-A857-1036F3E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D7A67-1197-45DE-AA4A-2356E02E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7F4-AAA6-4815-8100-D182422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75118-17F5-484E-BC15-A1B904BF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A92C7-D138-4A56-890C-B2AC83F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B6DC7-FEEC-4AA1-81D5-10DB9CE5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09ACF-74C3-4A7A-B09F-7910CF7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B7650-58FB-4516-9A48-C8C3935B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9CB5E-55A5-4A2E-9F27-9B8548A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AA273-1794-4061-ACC2-948155B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978FC-3AA2-4164-87FF-3A55A1C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40D11-7208-4787-AEE3-98C97DC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3A47D-FE67-4CE6-A2E1-19FD083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0444-42ED-4C3E-844C-1477DC9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06EA4-2A9C-4990-9845-51D357B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3DD85-FA86-43BC-9597-F6E3AD9B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4A42A-CE1E-4553-BE99-21E7E49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C83C2-4754-42C4-B5A1-893E66BD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3507A-A849-4858-B15E-A8F590FB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06A81-6AD2-4825-BAFD-F453B218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C8182-EDA2-48D2-AEAE-E3457F1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B8925-7E59-4446-8B66-6C93328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1A80E-250B-4234-A493-22F1797C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74E40-FD2B-4607-AA1A-F37A12A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B6C-F38C-4708-9988-DA0ABCE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658-EE00-4913-A158-8B85F41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D483B-4FDF-4CA8-A834-BA94D69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3A340-E438-4D50-B8C7-17D3A9A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25FFA-097D-4805-9B74-9B67754C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7C9DE-0550-4A91-A7F8-1BA63934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16C14-D9A0-4B5D-8BCF-2BC3DBD5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3F3CC-3774-4843-B4EB-1CB5883D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DB3C1-EFA3-4F45-8800-E9CAC40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F98EE-254E-4784-B72A-68B8239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ADCDF-F856-42D1-997A-86B64CB8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25F0E-667F-4FD1-99F7-2A569132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D5DE-0722-406A-AC0C-A5D822E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D72C3-F2FA-44B6-9CB9-0C96FAD5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6CD3D-8F3D-4CE1-B1A7-9B983BB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1259A-16F1-4173-9C07-BA4B8C2A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2CDBF-4EEE-4081-B7C3-679C020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591F7-A1B4-4F1C-AFEE-42D5ABA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19B89-EE5C-4D16-A497-7746B612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E3D45-182B-4670-BF6A-6A292FF2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F879D-E920-4B98-89A0-69E37DB8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7F074-D991-422D-AC02-5EEAC335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AD6F9-B19D-42F8-A138-CEDFDA9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47F5-4260-43A6-A6A1-43989388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48416-7B97-46BB-AF73-25ED077F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4158B-C8FE-4AF1-B035-1E23E0F1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C60A9-DEA1-4AC3-9145-9C036DB5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A9CC4-B19C-4214-B782-0BA919D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F7382-B4E7-4B26-8D26-C6E13A4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448B6-BA35-4B2A-B94C-B36C73D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2BCFB-45E8-485F-A74D-75E26061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DD654-8E00-4CCC-975F-781595A9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100AD-A5D0-4DDD-B1A2-020BE2C8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099AA-A6B6-419B-BAB7-FF404E7D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54B8-406C-4B0A-92D6-61DCBE45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731A2-3C39-480F-A8F7-33BB2AD5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B85DD-3060-4BB3-BD28-C9A3013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BA560-7253-4BA2-9A31-52CB59C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4C7D8-1B94-48A1-8164-0D76B2E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6329E-9980-4C39-9C8B-EC92E68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D7E84-2803-4C4B-9AE5-AF22A09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6BBAB-ACA0-4FE4-9137-BC055EB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D6705-95B9-4B99-8A14-B36262C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F7E16-14C5-4761-8303-EC80A60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8684D-5332-4571-907E-5D256D75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F183-700C-4DD3-8265-B812D725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1F80C-8B36-4BF9-AC3A-8B837715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3C3A6-2A33-4E62-A01A-DB5998E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A3B32-A0D9-4252-9044-5342203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EEA31-AD5F-4574-8142-FA8404B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C13BB-984B-4883-B390-C960D89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00988-9F89-4976-AE56-F69E98E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024CB-2738-4D3C-A224-E0E275D7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A8051-AB7B-464E-A0C6-D6A2EE6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E93AB-E1EF-41F5-861B-BC38814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8E5A8-7C1C-4EBD-B30A-E9C5A39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9559-1FF0-4F40-B321-77F8DEB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32D09-3B5B-4535-8E25-96380FF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62AC7-8F65-4A5D-A494-C3ECA54C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6B250-9654-44D6-873F-FB83A5BD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E384-F282-4CB9-B735-A40B77AE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B480-5149-4850-B97F-D82786B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0789-B15A-4610-B89F-A30B9E7A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27B4-DBF7-4C41-B9AB-65DFE38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917-F591-47EF-812C-0A2F704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B90D-D80E-48D4-8D41-DB8D388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7640-6515-4DD1-A97D-7FFA7B3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DA6A-59F7-4C46-8083-AC3DFB7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287F-2617-4AD9-95C7-6C3A890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DB14-7789-4A24-B165-007C921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8775-FF37-4959-A920-A409F82E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8266-F0E0-4FA0-B619-BE93D823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623F-0A02-445C-A5DB-FBE315E1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C22A-E687-415E-B4A9-E1121BD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63CB-FD22-42EC-8C6F-E55C25D5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EE6-47D5-40C3-8665-9ADDEEB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2CDB-9811-4549-B594-693AF8C3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9CAA-2F66-4CF9-A6CB-9835906F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4EA6-51DF-451B-A626-03283E6F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8D17-EEEF-4088-9632-2CC2D99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EAEB-9423-406C-9899-7FE3A35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EF51-EAAA-46A5-A849-EB6E585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A2A3-DD1B-4357-A687-34BE686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733E-9ED7-4C02-93B4-614F98C1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6350-F0CE-4CF2-B575-6CEFEF35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E6E0-D441-419D-B147-B5DE0D3C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7D1-BA80-416A-A86E-0A73C79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B8EF-DE6B-48C1-8188-5800974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2BBE-6980-4632-83D6-793B7D82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B123-0436-4F14-BBAD-F3AB017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FE52-29F6-4959-AE48-EF43A1B4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D099-FCF1-41B1-807E-6F45317F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4368-E0D3-4916-829F-A2334A2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B42E-335D-4E88-91E6-AAFE37B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A65A-F183-4C03-9426-4B93D4A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DC2F-D24B-4945-9E6F-2CE9307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9BFD-5A97-44BA-9957-7633C50E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A32-710E-4BAD-B84A-D1316CA5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2762-C90C-488D-9E53-BD576559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CA4D-3BF8-4D06-81C8-A4FF45CE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AB59-05EA-4B43-B7CE-99EEFC9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AED6-F34E-4342-B142-E5BB0FD1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12EC5-572A-488C-A962-1431A968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F1ED-202B-4E1E-BE14-759AA08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47CC-516C-4C1C-97D8-30B1EE31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1A7B-054C-4FD4-A487-36EA18E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0FA9-8EC0-445A-AA09-D4930B7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87FB-FF7D-4BD1-B078-C3651D3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470-8222-4071-B238-7410167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0407-C5B1-4068-96B3-BEF2BD1F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A2FD-E50F-4A81-8A18-97045EA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12B5-574A-40BF-919C-35A5BB01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F436-A011-4B3D-BA74-F297D7F1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DEB1-BAE9-4285-9303-30484EDC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F620-D961-4C3C-B172-FDADA18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D984-D2D2-4D84-BE6D-73BB0D81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5C36-63A6-4CC4-930A-6625BDD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7112-76FC-4A6E-9484-D0047FDF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D51E-92BA-43D1-9C6D-E0C75AC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816-BDA7-495A-B365-D704E6F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9F4F0-9ACF-4E23-94DA-4A825AE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9903-53E3-4279-AAA4-2804E42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9B491-3313-47C8-BBDB-D3135A3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4FF2-6F9E-4C89-B8B9-C5BE0460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8031C-C2A6-433F-8027-66DF4036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067BB-7F84-4254-8050-92C9C9A6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2E22-0751-4CEB-8561-5CAD06CD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C2EBD-8D89-4E8C-95A0-18544E48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74115-732F-4F03-82AE-8A7224EE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6CD9-DADC-4904-B2C1-739B032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F01-AEC8-4BF7-9D15-5E56D3A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B593-A890-44BB-AD27-33C8FFD3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E98E-14F0-45BE-8320-EFCEC27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B74DD-72F9-4BC8-A8EA-F93EA57D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D389-643E-4A29-A756-3EBADF0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1FC70-50E1-4526-B3EB-9BFC600B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B9F0-1E57-41D0-AEAE-CA2AC78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877BE-656C-46EE-8588-403919D5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8A0FF-592C-4E1D-834D-CDE7D13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1FDA4-308C-4922-A519-80B1EA8A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A53F-E7E4-4B22-AE74-84D35924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F0C-4748-4820-8B88-38CD7E8D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C10-E4D6-4F7A-B062-B94620230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65C-7CCE-4C88-8008-43AE1C9BA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C97-F6A7-4189-8B83-9007FBC0A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5D39-D8FA-40E4-A2AC-1967FD4AF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605-7D47-4D74-BC61-62231197F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11E-4E4E-47AA-90A8-797C2374C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E6B7-0997-44EF-82DD-EA11AB29F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9EC-02C1-4A15-9E10-3DED466160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1D6-FC5A-4346-9E0A-A3AFB7D82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7B0-320C-4B7D-8B46-A1A4155C5F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783-D351-4ECE-A82A-ED2F55811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966-B000-4311-BE2B-5EEA9ADC5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91F-3ACE-4AC2-B1AA-2CCA4397A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1BD-DB0D-40ED-B67B-FDACFE8A2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566-8B29-4960-995D-D032E20A8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454-5928-41FA-8482-DE5699659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7AD-2855-479D-8993-9F0CB23ED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374D-DDC0-4037-9CD7-D4405F3E6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F523-5A45-423A-969F-C5ADD5172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732-A825-4A33-A9AE-23412B98C0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A879-03B4-4A5F-8FBC-197BDC4D6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40F-1CB4-4248-810F-E426A45D1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B5EB-A6D1-48F0-B372-E48624DB0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1607-CDAD-4724-A5F3-CEC6F83EA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A93-6259-4CB5-8016-C34757C6A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F1B-6EBF-46BC-8B18-E81414E9D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3415-61B8-4C9D-A6F1-7506CAC5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83F-5B62-429B-95FC-37A0A2019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052-9597-4B27-BEB6-6761574E4F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F3D-7695-4EC8-A434-7864EE40E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8E6-FBD0-4DD4-BFC1-2B2FAAF04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6412-8D71-4670-A65D-3633F0B748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65D-3D66-4D1E-B51C-7F7FB6C6F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7038-7689-48CD-8BE3-9138EADCE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C431-7F7D-4EF3-BFED-411C63D02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E010-4BAD-48E2-8BB3-0DD6964C2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69F-9F12-4559-8372-F652272E6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613-BBA7-4D3D-AB02-73B46B1FB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483-F0C3-44B3-A37A-171FD454FF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105440" cy="6382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428920" y="3357720"/>
            <a:ext cx="42386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400960" cy="3162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371520" y="5100480"/>
            <a:ext cx="8486640" cy="1400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19177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2395440"/>
            <a:ext cx="87868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057880" cy="515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2"/>
          <a:stretch/>
        </p:blipFill>
        <p:spPr>
          <a:xfrm>
            <a:off x="5835600" y="1109520"/>
            <a:ext cx="2762280" cy="2514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3"/>
          <a:stretch/>
        </p:blipFill>
        <p:spPr>
          <a:xfrm>
            <a:off x="285840" y="1174680"/>
            <a:ext cx="5429160" cy="374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4"/>
          <a:stretch/>
        </p:blipFill>
        <p:spPr>
          <a:xfrm>
            <a:off x="285840" y="1631880"/>
            <a:ext cx="5429160" cy="376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5"/>
          <a:stretch/>
        </p:blipFill>
        <p:spPr>
          <a:xfrm>
            <a:off x="285840" y="2101680"/>
            <a:ext cx="542916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6"/>
          <a:stretch/>
        </p:blipFill>
        <p:spPr>
          <a:xfrm>
            <a:off x="285840" y="2550960"/>
            <a:ext cx="542916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7"/>
          <a:stretch/>
        </p:blipFill>
        <p:spPr>
          <a:xfrm>
            <a:off x="285840" y="3011400"/>
            <a:ext cx="5429160" cy="374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8"/>
          <a:stretch/>
        </p:blipFill>
        <p:spPr>
          <a:xfrm>
            <a:off x="285840" y="3503520"/>
            <a:ext cx="542916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9"/>
          <a:stretch/>
        </p:blipFill>
        <p:spPr>
          <a:xfrm>
            <a:off x="285840" y="39830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10"/>
          <a:stretch/>
        </p:blipFill>
        <p:spPr>
          <a:xfrm>
            <a:off x="285840" y="4430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11"/>
          <a:stretch/>
        </p:blipFill>
        <p:spPr>
          <a:xfrm>
            <a:off x="285840" y="5000760"/>
            <a:ext cx="8786880" cy="71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12"/>
          <a:stretch/>
        </p:blipFill>
        <p:spPr>
          <a:xfrm>
            <a:off x="285840" y="58402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52440" y="985680"/>
            <a:ext cx="8439120" cy="5515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285840" y="195264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85840" y="241128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285840" y="287964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285840" y="332892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285840" y="378936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285840" y="4235400"/>
            <a:ext cx="5286240" cy="374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8"/>
          <a:stretch/>
        </p:blipFill>
        <p:spPr>
          <a:xfrm>
            <a:off x="285840" y="46944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9"/>
          <a:stretch/>
        </p:blipFill>
        <p:spPr>
          <a:xfrm>
            <a:off x="285840" y="51624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10"/>
          <a:stretch/>
        </p:blipFill>
        <p:spPr>
          <a:xfrm>
            <a:off x="285840" y="56116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1"/>
          <a:stretch/>
        </p:blipFill>
        <p:spPr>
          <a:xfrm>
            <a:off x="285840" y="60721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2"/>
          <a:stretch/>
        </p:blipFill>
        <p:spPr>
          <a:xfrm>
            <a:off x="5470560" y="1785960"/>
            <a:ext cx="34862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304920" y="995400"/>
            <a:ext cx="8534160" cy="5505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285840" y="3289320"/>
            <a:ext cx="5643360" cy="374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85840" y="3747960"/>
            <a:ext cx="5643360" cy="374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4216320"/>
            <a:ext cx="5643360" cy="374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4665600"/>
            <a:ext cx="5643360" cy="374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5126040"/>
            <a:ext cx="5643360" cy="374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285840" y="56023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285840" y="60595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6286680" y="3164040"/>
            <a:ext cx="2643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7791480" cy="904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2"/>
          <a:stretch/>
        </p:blipFill>
        <p:spPr>
          <a:xfrm>
            <a:off x="285840" y="1976400"/>
            <a:ext cx="8505720" cy="4667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85840" y="8571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285840" y="13161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285840" y="4819680"/>
            <a:ext cx="5214960" cy="374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6"/>
          <a:stretch/>
        </p:blipFill>
        <p:spPr>
          <a:xfrm>
            <a:off x="285840" y="5288040"/>
            <a:ext cx="5214960" cy="374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7"/>
          <a:stretch/>
        </p:blipFill>
        <p:spPr>
          <a:xfrm>
            <a:off x="285840" y="5737320"/>
            <a:ext cx="5214960" cy="37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8"/>
          <a:stretch/>
        </p:blipFill>
        <p:spPr>
          <a:xfrm>
            <a:off x="285840" y="6197760"/>
            <a:ext cx="5214960" cy="37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9"/>
          <a:stretch/>
        </p:blipFill>
        <p:spPr>
          <a:xfrm>
            <a:off x="5715000" y="4824360"/>
            <a:ext cx="3143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6924600" cy="4962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285840" y="17146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4"/>
          <a:stretch/>
        </p:blipFill>
        <p:spPr>
          <a:xfrm>
            <a:off x="285840" y="2203560"/>
            <a:ext cx="8786880" cy="1244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5"/>
          <a:stretch/>
        </p:blipFill>
        <p:spPr>
          <a:xfrm>
            <a:off x="285840" y="3500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6"/>
          <a:stretch/>
        </p:blipFill>
        <p:spPr>
          <a:xfrm>
            <a:off x="285840" y="39895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7"/>
          <a:stretch/>
        </p:blipFill>
        <p:spPr>
          <a:xfrm>
            <a:off x="285840" y="44118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8"/>
          <a:stretch/>
        </p:blipFill>
        <p:spPr>
          <a:xfrm>
            <a:off x="285840" y="48610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9"/>
          <a:stretch/>
        </p:blipFill>
        <p:spPr>
          <a:xfrm>
            <a:off x="285840" y="5356080"/>
            <a:ext cx="87868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1" descr=""/>
          <p:cNvPicPr/>
          <p:nvPr/>
        </p:nvPicPr>
        <p:blipFill>
          <a:blip r:embed="rId1"/>
          <a:stretch/>
        </p:blipFill>
        <p:spPr>
          <a:xfrm>
            <a:off x="357120" y="795240"/>
            <a:ext cx="8534520" cy="5991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2"/>
          <a:stretch/>
        </p:blipFill>
        <p:spPr>
          <a:xfrm>
            <a:off x="285840" y="3143160"/>
            <a:ext cx="5000400" cy="374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3"/>
          <a:stretch/>
        </p:blipFill>
        <p:spPr>
          <a:xfrm>
            <a:off x="285840" y="3654360"/>
            <a:ext cx="5000400" cy="374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4"/>
          <a:stretch/>
        </p:blipFill>
        <p:spPr>
          <a:xfrm>
            <a:off x="285840" y="4086360"/>
            <a:ext cx="5000400" cy="374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5"/>
          <a:stretch/>
        </p:blipFill>
        <p:spPr>
          <a:xfrm>
            <a:off x="285840" y="4543560"/>
            <a:ext cx="5000400" cy="374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6"/>
          <a:stretch/>
        </p:blipFill>
        <p:spPr>
          <a:xfrm>
            <a:off x="285840" y="4975200"/>
            <a:ext cx="5000400" cy="374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7"/>
          <a:stretch/>
        </p:blipFill>
        <p:spPr>
          <a:xfrm>
            <a:off x="285840" y="5472000"/>
            <a:ext cx="5214960" cy="374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8"/>
          <a:stretch/>
        </p:blipFill>
        <p:spPr>
          <a:xfrm>
            <a:off x="285840" y="59198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9"/>
          <a:stretch/>
        </p:blipFill>
        <p:spPr>
          <a:xfrm>
            <a:off x="285840" y="63612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10"/>
          <a:stretch/>
        </p:blipFill>
        <p:spPr>
          <a:xfrm>
            <a:off x="5429160" y="3124080"/>
            <a:ext cx="33721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1" descr=""/>
          <p:cNvPicPr/>
          <p:nvPr/>
        </p:nvPicPr>
        <p:blipFill>
          <a:blip r:embed="rId1"/>
          <a:stretch/>
        </p:blipFill>
        <p:spPr>
          <a:xfrm>
            <a:off x="852480" y="1114560"/>
            <a:ext cx="7439040" cy="50292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285840" y="15606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285840" y="20080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5"/>
          <a:stretch/>
        </p:blipFill>
        <p:spPr>
          <a:xfrm>
            <a:off x="285840" y="2489040"/>
            <a:ext cx="8786880" cy="13161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6"/>
          <a:stretch/>
        </p:blipFill>
        <p:spPr>
          <a:xfrm>
            <a:off x="285840" y="38577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7"/>
          <a:stretch/>
        </p:blipFill>
        <p:spPr>
          <a:xfrm>
            <a:off x="285840" y="42894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8"/>
          <a:stretch/>
        </p:blipFill>
        <p:spPr>
          <a:xfrm>
            <a:off x="285840" y="4768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9"/>
          <a:stretch/>
        </p:blipFill>
        <p:spPr>
          <a:xfrm>
            <a:off x="285840" y="5297400"/>
            <a:ext cx="87868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5:2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